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A5E-F624-44E5-A76F-EE9E08D6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B58-431C-46B5-9248-C3992E49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10F-95A9-44F3-A121-97C0C90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578-6FF8-4C96-88B2-66812987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A65-59E6-4C73-9072-06C18C2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51F-747C-4720-BF53-A53B6255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D54-C516-4722-8D9D-E63BFB12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3E4-A625-46AE-99B3-DFC634B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426-2E91-413A-92D8-5E4C2C2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F6F-ABE6-42C8-BD84-36E8391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A51-B15A-41D9-BD54-EE58C98B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D91-FF45-4FCF-94E9-3FD6A5F5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FAA4-9C86-435B-8218-DBFE7EE5245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121-ECC2-4ACC-8B4B-AB8950D0127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96720" y="1628640"/>
            <a:ext cx="143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858000"/>
            <a:ext cx="9937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1557360"/>
            <a:ext cx="216036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620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pabilities Drive, Focus, Impact,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413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-38736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1403280" y="1628640"/>
            <a:ext cx="7489800" cy="468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32000" y="260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96720" y="-819000"/>
            <a:ext cx="9990000" cy="844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96720" y="1413000"/>
            <a:ext cx="1584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96720" y="6381720"/>
            <a:ext cx="9937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341360"/>
            <a:ext cx="21603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365720"/>
            <a:ext cx="5761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9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easures are taken as consequence of the Leadershi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-45864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20T08:06:34Z</dcterms:modified>
  <cp:revision>11</cp:revision>
  <dc:subject/>
  <dc:title>Agenda</dc:title>
</cp:coreProperties>
</file>